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F29F-CE2B-453D-86E3-9E4BFA9D2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E714-A574-4EA9-98D4-8B76788A3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6F99-FD11-4C2B-B167-A370ABB07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4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9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4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E349-F43A-4318-A0F6-952F5BC03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2BD7B-13E6-4DC7-B830-F994FE7AD2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2EEC0-E706-4F19-BD1B-E972F4A3AF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4FE6F-7F09-4647-BBB2-3122D42A69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C893E-CC53-437D-94BD-287CC42161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4C942-B736-48D3-A806-F2738FA407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B053A-4AAA-47C3-BDF7-755C12094A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5DFE6-1362-4163-A19F-691BA8A2BB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765F-5C50-4FAA-8F77-8AFF87260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C9D9-8A79-4CF3-BB8E-CCC70EE174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E2D49-6253-481D-BC29-3AD587D676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76040-4A97-456A-94DE-027DE34386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EF451-F3DC-4ABB-BA99-B708D71A42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2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4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9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2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4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D0C83-F75C-45AA-96EA-8393A6A975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94EE-845A-4EB6-99C8-98CDAD790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07DB-DCFE-404B-80CC-67D248294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E8DA5-0716-4DA6-9485-FE6A993D8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C4AE-65AD-4845-8A37-2D242A16E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1EAB-E975-478E-B147-D0F9450EA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5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A4DB-F625-4FEF-A08F-1C8071019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9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59631-DE7E-4693-8380-A867179FD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47160" y="9751680"/>
            <a:ext cx="381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8897-1EDE-48FE-8BB8-CE6ED757C7F0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644040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26CA-4EBA-410D-B20C-A16BF3282DA0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187280" y="3789000"/>
            <a:ext cx="74995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68000" indent="-180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20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008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4828-F159-4B72-9E2F-620ADA75C34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2492280"/>
            <a:ext cx="7559640" cy="10749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omputer Graphic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10429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42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7.png"/><Relationship Id="rId2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9.png"/><Relationship Id="rId2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장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. openGL AP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학습목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표준화의 개념과 필요성을 이해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API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정의와 필요성을 이해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고수준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API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장면묘사 방식을 이해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오픈지엘의 설계원리에 반영된 개념을 이해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파이프라인 개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상태변수 개념을 이해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992B-B5F6-4375-B925-2450C1ED21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장면 그래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ML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저작도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Cosmo Play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059280" y="981000"/>
            <a:ext cx="4679640" cy="1987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116000" y="3716280"/>
            <a:ext cx="6480360" cy="275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4853-E6F6-4E93-884D-452E7CE2B4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그래픽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I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발전과정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05800" cy="421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A8E4-F5CF-481A-8841-B9FE0E4F1E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오픈지엘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저수준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장면을 묘사하는 것이 아니라 구체적 프러시져를 호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f. DirectX from Microsoft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호환성 결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하드웨어와 거의 직접 연관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하드웨어 성능을 최대한 발휘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Inventor, VRML, Java3D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등 고수준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API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기반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드라이버 소프트웨어에 비해서는 상대적으로 고수준 함수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59280" y="3141720"/>
            <a:ext cx="4464000" cy="33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8060-B78F-46C1-918B-8774C35935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오픈지엘 설계원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3300"/>
                </a:solidFill>
                <a:latin typeface="Verdana"/>
              </a:rPr>
              <a:t>범용성</a:t>
            </a:r>
            <a:r>
              <a:rPr b="0" lang="ko-KR" sz="1600" spc="-1" strike="noStrike">
                <a:solidFill>
                  <a:srgbClr val="ff3300"/>
                </a:solidFill>
                <a:latin typeface="Verdana"/>
              </a:rPr>
              <a:t>(Generalit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워크스테이션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수퍼 컴퓨터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개인용 컴퓨터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운영체제에 무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3300"/>
                </a:solidFill>
                <a:latin typeface="Verdana"/>
              </a:rPr>
              <a:t>효율성</a:t>
            </a:r>
            <a:r>
              <a:rPr b="0" lang="ko-KR" sz="1600" spc="-1" strike="noStrike">
                <a:solidFill>
                  <a:srgbClr val="ff3300"/>
                </a:solidFill>
                <a:latin typeface="Verdana"/>
              </a:rPr>
              <a:t>(Performance)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그래픽 하드웨어의 가속 기능을 최대한 발휘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회사마다 서로 다른 기능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공통적인 부분을 찾아내어 그 성능을 극대화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공통부분이 아닌 것에 대해서는 활성화 또는 비활성화 등 기능 모드를 제공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3300"/>
                </a:solidFill>
                <a:latin typeface="Verdana"/>
              </a:rPr>
              <a:t>독립성</a:t>
            </a:r>
            <a:r>
              <a:rPr b="0" lang="ko-KR" sz="1600" spc="-1" strike="noStrike">
                <a:solidFill>
                  <a:srgbClr val="ff3300"/>
                </a:solidFill>
                <a:latin typeface="Verdana"/>
              </a:rPr>
              <a:t>(Orthogonalit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기능 간의 독립성을 최대한 보장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기능끼리 서로 얽혀 발생하는 오류를 방지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3300"/>
                </a:solidFill>
                <a:latin typeface="Verdana"/>
              </a:rPr>
              <a:t>완전성</a:t>
            </a:r>
            <a:r>
              <a:rPr b="0" lang="ko-KR" sz="1600" spc="-1" strike="noStrike">
                <a:solidFill>
                  <a:srgbClr val="ff3300"/>
                </a:solidFill>
                <a:latin typeface="Verdana"/>
              </a:rPr>
              <a:t>(Completeness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특정 하드웨어 기능에 대해서는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ARB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확장 형태로 명령어를 제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다수의 하드웨어가 확장 기능을 지원하면 표준기능으로 변경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소프트웨어적으로라도 실행할 수 있도록 배려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3300"/>
                </a:solidFill>
                <a:latin typeface="Verdana"/>
              </a:rPr>
              <a:t>상호 작업성</a:t>
            </a:r>
            <a:r>
              <a:rPr b="0" lang="ko-KR" sz="1600" spc="-1" strike="noStrike">
                <a:solidFill>
                  <a:srgbClr val="ff3300"/>
                </a:solidFill>
                <a:latin typeface="Verdana"/>
              </a:rPr>
              <a:t>(Interoperability)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그래픽 명령은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컴퓨터에서 내리되 실행은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컴퓨터에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클라이언트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서버 모델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(Client-Server Model)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지원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성능이 낮은 클라이언트 컴퓨터가 고성능 서버를 이용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203640" y="5173560"/>
            <a:ext cx="4105080" cy="12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1D39-8C9C-4F8C-B644-DB2A65ABCC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파이프라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PU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설계원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PU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파이프라인과 유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분업에 의한 동시처리로 처리속도를 극대화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Ex.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컨베이어 시스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파이프라인 서브 프로세스는 모두 하드웨어화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16000" y="3357720"/>
            <a:ext cx="6769080" cy="174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67E5-D3CC-4F69-9158-55CCE63DA3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상태변수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지엘의 역할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상태변수 설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파이프라인은 상태변수를 참조해서 자동으로 실행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55640" y="3068640"/>
            <a:ext cx="7510320" cy="183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D6BB-5484-49FE-8EF4-C6385B36A9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속성할당 방법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Verdana"/>
              </a:rPr>
              <a:t>파라미터 리스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wLine((1, 0), (3, 0), 3, 4, (255, 0, 0)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wLine((3, 0), (2, 5), 3, 4, (255, 0, 0)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wLine((2, 5), (1, 0), 3, 4, (255, 0, 0)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Verdana"/>
              </a:rPr>
              <a:t>시스템 테이블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LineStyle(2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LineWidth(4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LineColor(255, 0, 0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wLine((1, 0), (3, 0)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wLine((3, 0), (2, 5)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wLine((2, 5), (1, 0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“</a:t>
            </a:r>
            <a:r>
              <a:rPr b="0" lang="zh-CN" sz="1800" spc="-1" strike="noStrike">
                <a:solidFill>
                  <a:srgbClr val="006600"/>
                </a:solidFill>
                <a:latin typeface="Verdana"/>
              </a:rPr>
              <a:t>현 상태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라는 개념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rrent Stat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284720" y="3929040"/>
            <a:ext cx="46800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C536-366A-48AD-9D5E-C9FA5EFB74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지엘 프로그램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상태변수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파이프라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561440" cy="390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05B6-BD7D-4DF2-9A95-B86D02FEFB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상태변수 예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상태변수 설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glColor3f(1.0, 1.0, 1.0);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_CURRENT_COLOR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상태변수 값을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1.0, 1.0, 1.0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으로 설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다른 명령에 의해 값이 바뀔 때까지 모든 물체를 그릴 때 유효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상태변수 설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glPointSize(0.5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glLineWidth(5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glShadeModel(GL_SMOOTH);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상태변수 검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float MyColor[3];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임의 배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glGetFloatv(GL_CURRENT_COLOR, MyColor);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    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검색 함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기능관련 상태변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glEnable(GL_LIGHTING); 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             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조명 모드를 활성화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glDisable(GL_LIGHTING); 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조명 모드를 비활성화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815A-265D-49A4-81E8-3B63AA271A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지엘 명령어 구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점정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float: C/C++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타입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GLfloat:  GL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타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84360" y="1341360"/>
            <a:ext cx="4392720" cy="1596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042920" y="3068640"/>
            <a:ext cx="7362720" cy="22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B1C0E-217B-4CCB-B950-56E0B25B2D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표준화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8425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주어진 여건에서 최적의 질서를 유지하기 위해</a:t>
            </a: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현존하거나 잠재하는 문제들에 대해</a:t>
            </a: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공유성과 재사용성을 높이기 위한 기반을 확립하는 행위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ISO/IEC JTC1/SC24, Working Grou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하드웨어 구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Architecture)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응용프로그램 인터페이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API, Application Program Interface)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메타파일 및 인터페이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Metafile and Interface)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언어 수용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Language Binding)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표준안의 타당성검증 및 등록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Validation Testing and Registration)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64A2-6B91-4DD7-866B-D4960719D9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지엘 명령어 구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벡터 타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지엘은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명령어가 아니라 함수명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그러나 혼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지엘은 비 객체지향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처리속도를 향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함수 오버로딩이 불가능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차원 정점이라면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Vertex3f( ), 2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차원 정점이라면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Vertex2f(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55640" y="1484280"/>
            <a:ext cx="4608360" cy="18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DC76-C9AD-47EA-AEEA-BA40860704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지엘 프로그램 구성요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지엘 라이브러리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GL: OpenGL Core Library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렌더링 기능을 제공하는 함수 라이브러리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지엘 유틸리티 라이브러리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GLU: OpenGL Utility Library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여개의 함수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GL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라이브러리의 도우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다각형 분할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투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2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차원 곡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너브스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고급기능을 제공하는 함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L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함수로 작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지엘 유틸리티 툴 킷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GLUT: OpenGL Utility Toolkit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사용자 입력을 받아들이거나 화면 윈도우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제어하기 위한 함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윈도우 운영체제 기능과의 인터페이스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227640" y="2565360"/>
            <a:ext cx="2752920" cy="36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2D93-A0DB-4F1E-83EC-890A0C2FB8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LU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윈도우 기능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프로그램 실행에 필요한 창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Window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을 관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콜백 기능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프로그램 실행 중 발생하는 사용자 입력을 처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042920" y="1700280"/>
            <a:ext cx="3097440" cy="1485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971640" y="3632040"/>
            <a:ext cx="6337080" cy="265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62F9-F759-4DB8-8449-962ACAEE0D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그래픽 분야 표준의 목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주전산기 독립성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Host Machine Independence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동일한 프로그램을 가지고서 다양한 모든 하드웨어에서 사용할 수 있어야 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장비 독립성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Device Independence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동일 기능을 수행하는 입출력 장비의 종류가 달라도 프로그램 명령은 동일해야 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프로그램 언어 독립성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Programming Language Independence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프로그램 작성에 어떠한 프로그램 언어를 사용해도 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운영자 이식성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(Operator Portability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새로운 프로그램 사용법을 누구라도 쉽게 터득할 수 있어야 한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8048-213C-40CB-B12A-5DA626F36A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그래픽 기본요소와 기본요소 외양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기본요소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Primitiv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Point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선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Line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채움 영역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Fill Area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꺾은 선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Poly Line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표시 꺾은선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Poly Marker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문자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Characte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기본요소 외양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패턴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색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두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원형 캡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Round Cap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버트 캡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Butt Cap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확장 캡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Projection Ca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원형 연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Round Join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베벨 연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Bevel Join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마이터 연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Miter Join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채움 다각형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Filled Polygon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점층적 변화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Gradation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사선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윤곽선 제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547640" y="1989000"/>
            <a:ext cx="5543640" cy="800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340000" y="4941720"/>
            <a:ext cx="3960720" cy="16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F426-0E44-4051-88C9-601CF341C4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SO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그래픽 표준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GKS(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지케이에스</a:t>
            </a: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, Graphical Kernel System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유럽에 의해 주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2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차원 위주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이후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GKS-3D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로 발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파일출력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기본요소 수준에서 서술한 가상 레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Virtual Level)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저장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기본요소의 위치 좌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속성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가시성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변환 정보를 저장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3300"/>
                </a:solidFill>
                <a:latin typeface="Verdana"/>
              </a:rPr>
              <a:t>PHIGS(Programmer's Hierarchical Interactive Graphics Syste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미국에 의해 주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CAD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개념 반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차원 모델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Modeling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가시화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Viewing)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등에 주안점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상관관계를 포함한 물체의 집합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구조체</a:t>
            </a:r>
            <a:r>
              <a:rPr b="0" lang="ko-KR" sz="1800" spc="-1" strike="noStrike">
                <a:solidFill>
                  <a:srgbClr val="000099"/>
                </a:solidFill>
                <a:latin typeface="Verdana"/>
              </a:rPr>
              <a:t>(Structur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구조체 관통</a:t>
            </a:r>
            <a:r>
              <a:rPr b="0" lang="ko-KR" sz="1800" spc="-1" strike="noStrike">
                <a:solidFill>
                  <a:srgbClr val="3333cc"/>
                </a:solidFill>
                <a:latin typeface="Verdana"/>
              </a:rPr>
              <a:t>(Traversal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에 의한 드로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99"/>
                </a:solidFill>
                <a:latin typeface="Verdana"/>
              </a:rPr>
              <a:t>현 변환 행렬</a:t>
            </a:r>
            <a:r>
              <a:rPr b="0" lang="ko-KR" sz="1800" spc="-1" strike="noStrike">
                <a:solidFill>
                  <a:srgbClr val="003399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003399"/>
                </a:solidFill>
                <a:latin typeface="Verdana"/>
              </a:rPr>
              <a:t>現</a:t>
            </a:r>
            <a:r>
              <a:rPr b="0" lang="ko-KR" sz="1800" spc="-1" strike="noStrike">
                <a:solidFill>
                  <a:srgbClr val="003399"/>
                </a:solidFill>
                <a:latin typeface="Verdana"/>
              </a:rPr>
              <a:t>, CTM, Current Transformation Matrix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개념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파일출력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기본요소에 관한 정보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응용 프로그램 레벨에서 기본요소 사이의 관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SG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불리언 연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로봇 팔의 객체 계층구조 저장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94B2-5649-4EB3-92D7-D24862BA30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그래픽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응용프로그램 인터페이스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라이브러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GS, GKS =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추상적 수준의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700360" y="1989000"/>
            <a:ext cx="4896000" cy="1255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627280" y="3716280"/>
            <a:ext cx="4969080" cy="280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49F8-4B06-4F69-8ED8-F2C32045A7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고수준 그래픽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장면묘사 언어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(Scene Description Langua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amera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enter {0.0 0.0 5.0}             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카메라 중심을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(0.0 0.0 5.0)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에 위치시키되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direction {0.0 0.0 -1.0}         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카메라가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(0.0 0.0 -1.0)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을 바라보게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Lights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numLights 1                       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광원의 숫자는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개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DirectionalLight {               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방향성 광원으로 하여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direction {0.5 0.5 0.5}         (0.5, 0.5, 0.5)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방향으로 빛을 비추되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olor {1.0 1.0 1.0}             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백색 빛을 발하는 광원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ackground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olor {1.0 1.0 1.0}  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배경색은 백색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Group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numObject 2                   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물체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개로 이뤄진 그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aterial {0.0, 0.0, 1.0}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첫 물체를 청색으로 하여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phere {2.0}                  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반지름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인 원구를 그림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Transform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Translate {1.0, 0.0, 0.0}     x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축 방향으로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1.0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만큼 이동하여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cale {0.3, 0.3, 0.3}        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크기를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x, y, z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방향으로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0.3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배로 줄여서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aterial {1.0, 0.0, 0.0}     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둘째 물체를 적색으로 하여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phere {2.0}                   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반지름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인 원구를 그림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7"/>
          <a:stretch/>
        </p:blipFill>
        <p:spPr>
          <a:xfrm>
            <a:off x="5867280" y="3284640"/>
            <a:ext cx="3002040" cy="14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6D74-52B5-48E0-AADB-405DE65DF7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고수준 그래픽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장면 그래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Scene Graph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그룹 노드는 네스트 구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관통에 의해 장면을 그려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고수준 그래픽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오픈 인벤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open Invento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VR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Java3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843280" y="2133720"/>
            <a:ext cx="5329080" cy="27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9438-5597-4CD3-923A-EB6802FE2A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RM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691920"/>
            <a:ext cx="7993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#VRML V2.0 utf8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hape {                                       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ppearance Appearance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aterial Material {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geometry Sphere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adius 1.2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hape {                                        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ppearance Appearance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aterial Material {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geometry Cylinder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adius 0.3   height 5.0   top FALS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Transform {                            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translation -6.0 2.0 0.0                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hildren {                          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hape {                       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ppearance Appearance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      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aterial Material {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geometry Cylinder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             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adius 0.3   height 5.0    top FALSE ]         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7"/>
          <a:stretch/>
        </p:blipFill>
        <p:spPr>
          <a:xfrm>
            <a:off x="5651640" y="2781360"/>
            <a:ext cx="2519280" cy="22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D71C-C3DF-4CAD-A452-4B314CB43B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d</cp:lastModifiedBy>
  <dcterms:modified xsi:type="dcterms:W3CDTF">2005-10-04T02:58:07Z</dcterms:modified>
  <cp:revision>328</cp:revision>
  <dc:subject/>
  <dc:title>PowerPoint 프레젠테이션</dc:title>
</cp:coreProperties>
</file>